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54D-7BB2-4CE2-A1CB-FBFFF694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B3D-270B-4DD5-BC27-31DF649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BF5-ED07-4FB0-A6F1-5370A8FE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117-2E6E-469B-9220-874D7B8B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83C-528D-4299-881E-B961278F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C65C-A8EE-49AE-A908-BAAD8A3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2CF-17F0-4BC1-87A7-51054F2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E7AF-F0B1-4659-831E-46982827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7B12-92A7-44F9-9CA9-A5DD866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FF7-E62E-48D7-8031-9774244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B0A-8484-48A5-A9E4-3CAF429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AD4-7B67-4DCE-B8AD-262B1DD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1EC5-1C06-47BB-B6AE-E0EC9B4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3FA1-6C53-4D5F-826C-D8953B6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A3A0-8FCF-49E4-92DE-4B8B13DE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107-98C1-4EFF-A379-7F78BED6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DF10-D0A3-41C9-9A78-E8E05909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9ADF-A00F-402E-AE71-01FE0D07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45AE-ABD9-4E31-8873-6CB4246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EFAA-2650-4E11-A1BD-A3E0D87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24A5-FD1D-4CA8-9E4F-E2A9B456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B087-FFCA-4341-B971-7A0AAA3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8D2-29B5-40EB-A4AA-B88C2AE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0F50-84FA-40F6-808E-4ACD84A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C643-2910-4C46-AB54-56FF1AD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1F62-915C-49C1-BE50-8C3D342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74BA-E32C-4D6A-B3CF-9A83A4F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F532-AC0D-48E5-B9F6-FB28991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5224-E5AE-464F-B5C3-24135F55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254A-F745-4DD2-B99B-9357B85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E4D2-BC85-48D3-AA55-725B4968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005B-21B5-437D-8BFC-1ED965C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1373-6D5F-4729-9901-4A52472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123-6100-463C-9E4F-90D55370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D686-69F8-4156-9F5D-C0724A2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A69E-EF41-4926-A293-F76B6360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9F58-763F-4D23-8F27-E1529441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AEF1-20CB-46A0-A3EC-8569B40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EAEE-5527-4A5C-AD86-171F42D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2720-5F72-4720-851C-52D50E1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A8DA-48C7-446E-943B-9B9F75F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6033-3B60-41ED-B204-49DE7B1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9535-D34E-42AA-B0F3-123CAF7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808-95D0-4EF2-8491-0CBE225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E6B-333F-49C9-AAA4-920EBE2F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480-D8F3-45F1-9666-A933429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C84-2EF5-4543-9796-F82DF5D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95-BEF4-455D-B379-F12F33D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2CCA-3ED4-4665-9C84-59405B86FD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B9F1-C423-4417-A4A1-BE5D514AA4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CE2-AA27-44D4-9BDB-2DD8C7BDE8D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86CC-50AD-4869-A860-9BBF3A7621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7:11Z</dcterms:modified>
  <cp:revision>9</cp:revision>
  <dc:subject/>
  <dc:title>Sinusoidal Graphs</dc:title>
</cp:coreProperties>
</file>